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E25-1422-4E3D-9059-9AF04AF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113-67CD-438C-B281-64BB82F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A6B-0893-4D04-A92C-C1584580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D8F-47E9-453E-9DB7-F77B46F5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A4F-6362-45ED-8069-D34907F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FC8-2CFA-4E67-9876-D91B948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633-CA17-43C7-AE45-D690F3E2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F51-8700-45EC-BA15-B2497E9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5FE-5706-41BA-8637-2B552356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169-A93F-4F93-A5F5-968C8F6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FBA-BEEE-4B26-BF49-60DA990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D65-9A90-466D-B1F7-ED6FA32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297-65A4-42CE-8D7E-D080CC614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057400"/>
            <a:ext cx="373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ÖĞRETMENLER   GÜN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24 KASI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2286000"/>
            <a:ext cx="2057400" cy="1447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828800"/>
            <a:ext cx="2057400" cy="1447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609480"/>
            <a:ext cx="2057400" cy="1447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343400"/>
            <a:ext cx="2057400" cy="1447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95680"/>
            <a:ext cx="1523880" cy="1219320"/>
          </a:xfrm>
          <a:custGeom>
            <a:avLst/>
            <a:gdLst>
              <a:gd name="textAreaLeft" fmla="*/ 358200 w 1523880"/>
              <a:gd name="textAreaRight" fmla="*/ 1164600 w 1523880"/>
              <a:gd name="textAreaTop" fmla="*/ 143280 h 1219320"/>
              <a:gd name="textAreaBottom" fmla="*/ 765000 h 12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"/>
            <a:ext cx="1523880" cy="1219320"/>
          </a:xfrm>
          <a:custGeom>
            <a:avLst/>
            <a:gdLst>
              <a:gd name="textAreaLeft" fmla="*/ 358200 w 1523880"/>
              <a:gd name="textAreaRight" fmla="*/ 1164600 w 1523880"/>
              <a:gd name="textAreaTop" fmla="*/ 143280 h 1219320"/>
              <a:gd name="textAreaBottom" fmla="*/ 765000 h 12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4419720"/>
            <a:ext cx="1524240" cy="1218960"/>
          </a:xfrm>
          <a:custGeom>
            <a:avLst/>
            <a:gdLst>
              <a:gd name="textAreaLeft" fmla="*/ 358200 w 1524240"/>
              <a:gd name="textAreaRight" fmla="*/ 1164960 w 152424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04920"/>
            <a:ext cx="1523880" cy="1218960"/>
          </a:xfrm>
          <a:custGeom>
            <a:avLst/>
            <a:gdLst>
              <a:gd name="textAreaLeft" fmla="*/ 358200 w 1523880"/>
              <a:gd name="textAreaRight" fmla="*/ 1164600 w 152388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276720"/>
            <a:ext cx="1600200" cy="190476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28600"/>
            <a:ext cx="1600200" cy="190512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4572000"/>
            <a:ext cx="1600200" cy="190512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0"/>
            <a:ext cx="1600200" cy="190512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6386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5627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9907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1600200" cy="53352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6172200"/>
            <a:ext cx="1600200" cy="53352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3733920"/>
            <a:ext cx="1600200" cy="5331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0"/>
            <a:ext cx="1600200" cy="53352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838080" cy="5335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5715000"/>
            <a:ext cx="838080" cy="5335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124080"/>
            <a:ext cx="838080" cy="5335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514600"/>
            <a:ext cx="838080" cy="5335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0-11-23T09:29:48Z</dcterms:created>
  <dc:creator>istek</dc:creator>
  <dc:description/>
  <dc:language>en-US</dc:language>
  <cp:lastModifiedBy>istek</cp:lastModifiedBy>
  <dcterms:modified xsi:type="dcterms:W3CDTF">2090-11-23T09:57:17Z</dcterms:modified>
  <cp:revision>1</cp:revision>
  <dc:subject/>
  <dc:title>No Slide Title</dc:title>
</cp:coreProperties>
</file>