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6C2F-676E-4B45-8BDB-F6B153010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B484-527E-4760-AAD0-E082B2F2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E7A2-7410-4989-9CDF-1B3D5C9A1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FD32-8A43-407E-B189-BD1ABBFA3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B750-10E1-4412-AC09-1C057667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BFCB-2586-4747-B48C-4937F77B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0E46-F808-4131-8536-9F54A5BD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B763-8AD5-405C-8C01-8F94F62E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6061-840D-4AD4-9407-A44C2778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B3AD-CAF3-4D3B-B840-D3764AE1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623C-838F-4D49-8017-AE6C7203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356A-2042-4479-9B85-DC001FE0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7C71-4C31-4311-B285-79B84D327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038480" y="30492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571500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848720" y="502920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571500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96080" y="22860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5228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281952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251460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600200"/>
            <a:ext cx="914400" cy="9144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000066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419720"/>
            <a:ext cx="914400" cy="9144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000066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38280" y="5638680"/>
            <a:ext cx="914400" cy="9144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000066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248520" y="5791320"/>
            <a:ext cx="914400" cy="9144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000066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924680" y="3733920"/>
            <a:ext cx="914400" cy="9144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cc00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772400" y="1371600"/>
            <a:ext cx="914400" cy="9144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000066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228600"/>
            <a:ext cx="914400" cy="9144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000066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72200" y="304920"/>
            <a:ext cx="914400" cy="9144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000066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29400" y="4724280"/>
            <a:ext cx="914400" cy="914400"/>
          </a:xfrm>
          <a:prstGeom prst="lightningBol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4648320"/>
            <a:ext cx="914400" cy="914400"/>
          </a:xfrm>
          <a:prstGeom prst="lightningBol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1295280"/>
            <a:ext cx="914400" cy="914400"/>
          </a:xfrm>
          <a:prstGeom prst="lightningBol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629400" y="1447920"/>
            <a:ext cx="914400" cy="914400"/>
          </a:xfrm>
          <a:prstGeom prst="lightningBol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3505320"/>
            <a:ext cx="961920" cy="91440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34320" y="3581280"/>
            <a:ext cx="961920" cy="91440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4648320"/>
            <a:ext cx="961920" cy="91440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4495680"/>
            <a:ext cx="961920" cy="91440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05520" y="1295280"/>
            <a:ext cx="961920" cy="91440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1371600"/>
            <a:ext cx="962280" cy="91440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057400" y="2590920"/>
            <a:ext cx="5257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Öğretmenler  Günü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124080" y="3886200"/>
            <a:ext cx="2486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24  Kasım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391520" y="5943600"/>
            <a:ext cx="1752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 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  </a:t>
            </a: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Ömer Buğra  Yıldırım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  </a:t>
            </a: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3-B  314 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12:35:53Z</dcterms:created>
  <dc:creator>'stek</dc:creator>
  <dc:description/>
  <dc:language>en-US</dc:language>
  <cp:lastModifiedBy>'stek</cp:lastModifiedBy>
  <dcterms:modified xsi:type="dcterms:W3CDTF">2001-11-19T13:05:44Z</dcterms:modified>
  <cp:revision>1</cp:revision>
  <dc:subject/>
  <dc:title>No Slide Title</dc:title>
</cp:coreProperties>
</file>